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01D-21F0-4B4B-A7C3-E99E9EDD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71412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1C6-B52F-4309-B8C1-D39CFB4B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9120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E6B-9A4D-416A-A54F-B04EDFB6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88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1420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88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1420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0D6-8F8A-47ED-BE59-388D42B3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442-73C5-46F1-ABF3-F40F1D6F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4020-DF46-42C6-B268-6424F6C2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086B-C532-4607-8AB1-82FA2FD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EBCD-4BF8-4CC4-A761-46E4F4AF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EC0A-627B-4CBF-8DFF-AE3E0078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7800-BCBE-4DAA-90CE-C21BFA50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27D8-1E4A-42C2-BB9C-8029FC9C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A3F-73FB-463D-9353-25DDDB36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9120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8D60-903E-4602-98B8-DB129EC2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1BA6-F185-4304-AD19-42DC1934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920" y="371412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2715-A5A0-460E-B878-A5D921FA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9120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A0C1-BDC1-4B75-9C1D-BF6522A2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288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14200" y="60948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92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288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14200" y="3714120"/>
            <a:ext cx="2600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FC71-A3F5-4518-AD2B-3DE3BFC7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C4C-CD17-4AA3-9563-E0DCFD00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2A8E-6F9C-4DC5-BB16-267A6764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53C-3265-408A-87A4-C5E354CD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0"/>
            <a:ext cx="8001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860-3F9F-48FA-8A35-98FAB853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925-1794-4150-9846-9F630EDD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91200" y="371412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5F3-FA06-4642-95BB-C0F30696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-23760"/>
            <a:ext cx="8001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91200" y="609480"/>
            <a:ext cx="3941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714120"/>
            <a:ext cx="8077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0BF0-4DFF-4D63-8AF7-BFAC4D46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standing"/>
          <p:cNvPicPr/>
          <p:nvPr/>
        </p:nvPicPr>
        <p:blipFill>
          <a:blip r:embed="rId3"/>
          <a:stretch/>
        </p:blipFill>
        <p:spPr>
          <a:xfrm>
            <a:off x="5943600" y="0"/>
            <a:ext cx="5281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32375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28773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2519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6E8D-721F-4804-944E-290B1F72909A}" type="slidenum"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ras Bold IT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3597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32375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SzPct val="28773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2519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2519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2519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25192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F716-AF26-458A-A719-683B520F1C83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3356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Goofy Beave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llenges YOU to Answer this Question</a:t>
            </a:r>
            <a:endParaRPr b="0" lang="en-US" sz="3200" spc="-1" strike="noStrike">
              <a:solidFill>
                <a:srgbClr val="000000"/>
              </a:solidFill>
              <a:latin typeface="Eras Bold ITC"/>
            </a:endParaRPr>
          </a:p>
        </p:txBody>
      </p:sp>
      <p:pic>
        <p:nvPicPr>
          <p:cNvPr id="84" name="Picture 13" descr="beaver_alarm_hg_clr"/>
          <p:cNvPicPr/>
          <p:nvPr/>
        </p:nvPicPr>
        <p:blipFill>
          <a:blip r:embed="rId1"/>
          <a:stretch/>
        </p:blipFill>
        <p:spPr>
          <a:xfrm>
            <a:off x="2971800" y="152280"/>
            <a:ext cx="3030480" cy="238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7" descr="beaver_working_hg_clr"/>
          <p:cNvPicPr/>
          <p:nvPr/>
        </p:nvPicPr>
        <p:blipFill>
          <a:blip r:embed="rId2"/>
          <a:stretch/>
        </p:blipFill>
        <p:spPr>
          <a:xfrm>
            <a:off x="184320" y="4492800"/>
            <a:ext cx="2406600" cy="2060280"/>
          </a:xfrm>
          <a:prstGeom prst="rect">
            <a:avLst/>
          </a:prstGeom>
          <a:ln w="0">
            <a:noFill/>
          </a:ln>
        </p:spPr>
      </p:pic>
      <p:pic>
        <p:nvPicPr>
          <p:cNvPr id="86" name="canyoufeelthelovetonight.mid" descr=""/>
          <p:cNvPicPr/>
          <p:nvPr/>
        </p:nvPicPr>
        <p:blipFill>
          <a:blip r:embed="rId3"/>
          <a:stretch/>
        </p:blipFill>
        <p:spPr>
          <a:xfrm>
            <a:off x="83818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5333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SzPct val="3600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uestion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42" descr="beaver_searching_for_danger_hg_clr"/>
          <p:cNvPicPr/>
          <p:nvPr/>
        </p:nvPicPr>
        <p:blipFill>
          <a:blip r:embed="rId2"/>
          <a:stretch/>
        </p:blipFill>
        <p:spPr>
          <a:xfrm>
            <a:off x="0" y="51814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2T23:40:48Z</dcterms:created>
  <dc:creator>cmassengale</dc:creator>
  <dc:description/>
  <dc:language>en-US</dc:language>
  <cp:lastModifiedBy>Microsoft Office User</cp:lastModifiedBy>
  <dcterms:modified xsi:type="dcterms:W3CDTF">2011-09-17T09:36:48Z</dcterms:modified>
  <cp:revision>6</cp:revision>
  <dc:subject/>
  <dc:title>Goofy Beaver  Challenges YOU to Answer this Question</dc:title>
</cp:coreProperties>
</file>